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89A-70A6-44E3-A9BE-D342DD68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49E-5C61-4B56-92B4-C43853B1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A50-4F64-46F3-884F-E3B49DA3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E39-D29B-4C13-A972-9A0F4489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6A8-620B-4240-9065-3E80107A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7C5-A4A4-423B-B9EB-EB24C3EE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B9A-118A-490C-9D23-02695F16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71D-B7E3-4CF8-B4A5-E731998E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43A-19F4-4298-B72D-FDF5A2BA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5EE-3A8E-421C-9F5A-77E77AA0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B78-01BA-41C5-8E9E-2591120A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8E4-5723-4F58-ACDF-5F3B85A0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EE5F-15F2-48B2-A366-F1467E141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kimages.com/discover/previews/772/116442.JPG&amp;imgrefurl=http://www.dkimages.com/discover/Home/Food-and-Drink/Cooking/Raising-Thickening-and-Colou.../Yeast/Yeast-37.html&amp;h=512&amp;w=512&amp;sz=68&amp;hl=en&amp;start=1&amp;um=1&amp;tbnid=EnB9DoEHMbHe2M:&amp;tbnh=&amp;tbnw=&amp;prev=/images%3Fq%3Dyeast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balloonbrites.com/images/home_balloons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udfs01/hstshare/DeLaurentis%20-%20Biology%20392/Biology%20392/Unit%202%20-%20Chapters%202,%2038%20,%208,%209,%2023/Chapter%209%20-%20Respiration/Movies/Chapter%2009C.mpg" TargetMode="External"/><Relationship Id="rId2" Type="http://schemas.openxmlformats.org/officeDocument/2006/relationships/hyperlink" Target="http://www.youtube.com/watch?v=2IGIyA57Brc&amp;NR=1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FBr3ANCkb4&amp;feature=related" TargetMode="External"/><Relationship Id="rId2" Type="http://schemas.openxmlformats.org/officeDocument/2006/relationships/hyperlink" Target="http://www.youtube.com/watch?v=wqqYIgY40OE" TargetMode="External"/><Relationship Id="rId3" Type="http://schemas.openxmlformats.org/officeDocument/2006/relationships/hyperlink" Target="http://www.youtube.com/watch?v=kPNVRDAx7Jc&amp;feature=related" TargetMode="External"/><Relationship Id="rId4" Type="http://schemas.openxmlformats.org/officeDocument/2006/relationships/hyperlink" Target="http://www.youtube.com/watch?v=bwmzWSOJAu4&amp;feature=related" TargetMode="External"/><Relationship Id="rId5" Type="http://schemas.openxmlformats.org/officeDocument/2006/relationships/hyperlink" Target="http://www.youtube.com/watch?v=37ybxMtdLBU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hat observations and results did you obtain for the yeast la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substances were contained in the test tubes that had balloons infla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substances were contained in the test tubes that did not have balloons infla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hy do you think some balloons were inflated while others were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hat was going on in terms of respiration with the yea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 this anaerobic respiration (fermentation) or aerobic respiration? Expl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ype of fermentation was this process? Expl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substances were used during this process? (reacta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substances were made during this process? (produ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What substance was being produced that ultimately caused the balloons to infl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What do you think would happen if you let the reaction occur for an ho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81080" y="228600"/>
            <a:ext cx="502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Yeast Lab Ques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152280"/>
            <a:ext cx="923760" cy="7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104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 Transport Chain: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from the electron carriers (NADH &amp; FAD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sent through a series of molecules to creat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ons, once at the end of the chain, will attach to hydrogen ions and oxygen atoms to form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on the inner membrane (red) of the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952880" y="228600"/>
            <a:ext cx="13096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 Transport Chain: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H &amp; FAD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ry high energy electrons to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of electrons along ETC c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mping of H+ into intermembrane space (b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+ build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+ diffuses out throug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P synt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P and P join to form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at end of ETC joi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+ and O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ak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acts as the “final electron accep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257800" y="304920"/>
            <a:ext cx="914400" cy="32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-76320" y="1219320"/>
            <a:ext cx="9524880" cy="5358960"/>
            <a:chOff x="-76320" y="1219320"/>
            <a:chExt cx="9524880" cy="53589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373040" y="1741680"/>
              <a:ext cx="6841080" cy="48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744200" y="1705320"/>
              <a:ext cx="21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ectron 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71560" y="1988280"/>
              <a:ext cx="2345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ydrogen Ion Mov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39640" y="5977800"/>
              <a:ext cx="156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P 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24720" y="3496320"/>
              <a:ext cx="179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P synt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90480" y="21826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-76320" y="5797080"/>
              <a:ext cx="150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7692480" y="1219320"/>
              <a:ext cx="1756080" cy="126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-128520" y="4727520"/>
            <a:ext cx="1571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706320" y="3251160"/>
            <a:ext cx="2151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mbra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and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normally contain small amounts of ATP produced by glycolysis and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enough for a few seconds of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ctivities that are “qui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is is used up, muscles get their energy from lactic acid fer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ctivities that are “longer dist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d energy in the muscles (a sugar called glycogen) will break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s for about 20-3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body will break down other energy containing molecules like 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616040"/>
            <a:ext cx="75438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rebs Cycle: Par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ebs Cycle: Par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Transport Chain: Par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Transport Chain: Part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lectron Transport Anim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1:5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llular Respiration Ninja Enzym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4: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llular Respiration So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5: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ellular Respiration with People &amp; Playgrou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3: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ellular Respiration with Sig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3: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ellular Respiration Ra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2: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ere does the Krebs cycle take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steps for the Krebs cycle starting with pyruvic ac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are the products of the Krebs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at is the electron transport chain and how is it used to produce AT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at acts as the final electron acceptor for the electron transport ch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How does your body store energy for exerc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Chapter 9.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rebs Cycle and 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colysi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lysis is the process of taking one molecule of glucose and breaking it down into 2 molecules of pyruv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TP are needed to start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TP and 2 NADH are ne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in the 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glycolysis is over, the presence of oxygen is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aerobic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erobic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51051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6228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78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7184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8772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8176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9728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9132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072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676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78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8772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9728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072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676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2640" y="181296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b’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ic Acid loses a carbon atom in the form of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s a 2-carbon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a 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2-carbon molecule will bind with Co-enzyme A to form Acety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olecule can now enter the Kreb’s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b’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Kreb’s cycle, pyruvic acid is broken down into carbon dioxide in a series of energy-extracting re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 the 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inter mitochondri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13280" cy="5029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2133720"/>
            <a:ext cx="2133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 membrane space = between 2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648320" y="2514600"/>
            <a:ext cx="2133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Kreb’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reb’s Cycle will turn once for each one molecule of pyruv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turns twice per 1 molecule of 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NAD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AD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lectron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cellular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carbon di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le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37339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37339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 are moved to the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13000" y="0"/>
            <a:ext cx="631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8:27:25Z</dcterms:created>
  <dc:creator>bpalme</dc:creator>
  <dc:description/>
  <dc:language>en-US</dc:language>
  <cp:lastModifiedBy>udsd</cp:lastModifiedBy>
  <dcterms:modified xsi:type="dcterms:W3CDTF">2010-03-11T17:24:54Z</dcterms:modified>
  <cp:revision>18</cp:revision>
  <dc:subject/>
  <dc:title>Chapter 9.2</dc:title>
</cp:coreProperties>
</file>